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0E1-0939-4F04-8ACB-E2E294BF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C15-382E-4236-8D0D-A90FFDD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378-FFAD-4699-AAF3-60159113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850-153C-4522-BBD0-0727ABFB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4A0-5A90-4DBA-8890-3914A6C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DCC-C316-4DE9-B7DE-1709147A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5BF-655B-4697-82EC-DD818B5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7AD-5A59-4F55-93C7-C0DEA81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1D9-D8C4-4721-AE5F-CAA60AE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0F0-6E90-4F24-ABB3-9B4BE07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DBC-9179-425B-90C1-09DD357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AF8-EA84-4444-AF12-01078E2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7F52-5109-44A9-B04F-24419146E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61722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Prefi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Suffi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05740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Gee, thanks,” said Randy, hopping on the bi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2666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See, I can be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likabl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!” said Jake with a gr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beginning of a root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changes the meaning of a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44792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end of a root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also changes the meaning of a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Prefixes We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209680"/>
            <a:ext cx="3124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bi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no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dis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 or opposit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m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i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non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Suffixes We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209680"/>
            <a:ext cx="31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e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one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o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one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less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wit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able, -ible 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fa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uil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ver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53352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Randy’s bike tire was flat.  He couldn’t find the pump because the garage was in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disorder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.  “It’s hopeless,” said Randy.  “I’ll never make it to the soccer game on ti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75248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That’s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nonsens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,” said his brother Jake.  “You can use my bik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2:03:29Z</dcterms:created>
  <dc:creator>Resource User</dc:creator>
  <dc:description/>
  <dc:language>en-US</dc:language>
  <cp:lastModifiedBy>Resource User</cp:lastModifiedBy>
  <dcterms:modified xsi:type="dcterms:W3CDTF">2005-07-27T02:03:47Z</dcterms:modified>
  <cp:revision>1</cp:revision>
  <dc:subject/>
  <dc:title>PowerPoint Presentation</dc:title>
</cp:coreProperties>
</file>